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5F1-AB63-4E5E-98BA-EF6E9368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8E6-E04C-46FF-BDF4-A3F223CC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A7E-4375-4D18-9321-D5BD6BFA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1D8-A60C-4622-8826-30A5FDF4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996-CC76-4837-8868-9BD0A574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A2C-EF24-4946-AC7D-8FBED723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39E-5D4C-4F01-92C9-8A412A70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A4E-2733-4EED-A422-3088030B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4C8-8F56-4716-932E-7E57428C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254-2605-477F-9E50-05D5EBCB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6D0-F094-4F23-A61A-F922CD67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137-EF0E-4B95-8696-F1DAEDE9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DBAA-D203-45F8-8AFE-6DFD3E2D9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0358eocWgsHZvH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89535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أنتم ملحُ الأرض، فإذا فَسَدَ الملحُ فأيُّ شيء يُملِّحهُ. 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إنـَّـهُ لا يَصلُـحُ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إلاَّ لأنْ يُطرَحَ في خارجِ الدارِ فيدوسَه الناسْ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  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أنتم نورُ العالم، لا تَخفى مدينةٌ على جبلٍ، ولا يوقدُ سراجٌ 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يوضــعَ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حتَ المكيالْ، بلْ على المنارةِ ليضيءَ لجميعِ الذينَ همْ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ي  البيــت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86400" y="0"/>
            <a:ext cx="3200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لِيُضىءْ نورُكم هكذا للناسْ،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ليَروا أعمالكُــمُ الصالحــة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ُمجّـدو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باكـــُــمُ الـــذي فــــي السمــاواتْ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50528335egXdII_ph" descr=""/>
          <p:cNvPicPr/>
          <p:nvPr/>
        </p:nvPicPr>
        <p:blipFill>
          <a:blip r:embed="rId1"/>
          <a:stretch/>
        </p:blipFill>
        <p:spPr>
          <a:xfrm>
            <a:off x="0" y="0"/>
            <a:ext cx="53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5:37:19Z</dcterms:created>
  <dc:creator>USER</dc:creator>
  <dc:description/>
  <dc:language>en-US</dc:language>
  <cp:lastModifiedBy>USER</cp:lastModifiedBy>
  <dcterms:modified xsi:type="dcterms:W3CDTF">2003-02-10T15:44:14Z</dcterms:modified>
  <cp:revision>1</cp:revision>
  <dc:subject/>
  <dc:title>PowerPoint Presentation</dc:title>
</cp:coreProperties>
</file>